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6206992"/>
        <c:axId val="96186112"/>
      </c:barChart>
      <c:catAx>
        <c:axId val="5620699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6186112"/>
        <c:crosses val="autoZero"/>
        <c:auto val="1"/>
        <c:lblAlgn val="ctr"/>
        <c:lblOffset val="100"/>
        <c:noMultiLvlLbl val="0"/>
      </c:catAx>
      <c:valAx>
        <c:axId val="96186112"/>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620699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26A70-271A-4CDA-B8D6-6AF00DE3D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007FB-DDC1-421C-968F-1B14E1141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01A55-33FB-4F0F-A57B-B7AC74CBF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33351-B1B8-4746-8EB5-2C21172B4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0308F-37F6-4A1A-A1EE-45F0FEBCF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BF8BE-0F52-4740-9041-F21BF43EC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6A25D-1EB5-467A-89D2-9266FF358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779FA-D2F7-48FA-98CE-0521B788B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08151-557A-4317-A137-903160346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9C3FA-88BC-417B-B558-74DED6A6D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3FE9E-A3BB-450A-AA56-13C23328E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AB639-3BEC-4312-9FA4-9FAFCFC82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6AB0F-680D-4334-B178-99319F467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F0521-2488-49D2-8379-5638FC15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63CE4-3E59-4ED2-9D57-7002B6DDC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53235-C38F-4B8E-A071-C9538DBD2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F0178-C1A6-4005-B6C2-1F6B1FDED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CE43A-E397-4CF8-A8F1-A3F1677EF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B790D-E258-4997-BEB1-F2E6AC6A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DEC3F-2BB9-4C6E-9DE9-A6FC70337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301C-7C88-48C6-8875-13BC683F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D102B-4DF3-47BA-AA5D-ED5A0B4E1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3511-C52F-4FD8-9CB1-20D81BC02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6D86-49E5-4047-8C60-8A3196D39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CD4FF-4895-41E2-986D-84979DEBE29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BA177-2FC0-4F1E-AC42-8B7A8A71C05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