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7953873"/>
        <c:axId val="32581194"/>
      </c:barChart>
      <c:catAx>
        <c:axId val="57953873"/>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2581194"/>
        <c:crosses val="autoZero"/>
        <c:auto val="1"/>
        <c:lblAlgn val="ctr"/>
        <c:lblOffset val="100"/>
        <c:noMultiLvlLbl val="0"/>
      </c:catAx>
      <c:valAx>
        <c:axId val="3258119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7953873"/>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DFBF1-7825-4C7D-8DF5-D15B06AD8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18E41-D640-472B-AA3B-007F8D1F0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64A31-743D-4BEB-8E4E-641C03BF9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3F5DF-9AA9-46CE-8ED2-8AE3415A2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EC082-01AE-4379-8265-2071A6EA6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5D494-30DE-42CF-B8E8-D4111A454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83AE2-30F5-4C62-9600-DA1311AAB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A5191-8528-4B49-B4E0-8DE101CAA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B8DFD-C32B-4D8F-A2A0-E908B0CB3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A2D7E-D319-47D8-97CD-B0C0B3C20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06405-43DD-4BDA-ABE8-B9BC2728E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C176A-F7F3-485B-83B1-72A75F310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9A8C2-65B7-44B3-84F1-ACF4BD76D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7A8C6-DDAE-4B7D-9264-BF8990819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0A48B-3893-48F5-92A6-3E0D45D99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E68C9-CE20-44D2-8BA6-E7A121F7F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40C1A0-AC4B-4367-AFC7-B49B1C476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3EED9-4FE5-4C8B-8654-3BF32EE55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333FA-B9CD-49A9-99F6-63CD4616C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0EC95-9CA8-4A28-9AEA-B12A266FF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A399A-AF4E-4472-B02A-2C1C19B10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50FD5-20F2-4A87-915E-A313EB38E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5B9B3-C150-4E59-887E-8759F91CD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5D9DE-F3E8-428C-9DE9-BB6BE9E6E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711A2C-1311-4F35-9500-AC6F4FD3BFF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D1D0DB-23F2-4FFB-A5B8-9B0E462EB4A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